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lick.wav" ContentType="audio/x-wav"/>
  <Override PartName="/ppt/media/image2.jpeg" ContentType="image/jpeg"/>
  <Override PartName="/ppt/media/image23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B6AE-B048-467B-87D5-D63F845C88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ongior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parlerò di un percorso che è stato fatto per consentire ad una persona con gravi difficoltà motorie e di comunicazione di utilizzare tecnologie informatiche per migliorare la sua autonom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 non sol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ra Jessica comanda gli oggetti dell’ambiente domestico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uò finalmente far partire la musica che le piace in autonomia senza dipendere dalla presenza costante di altre persone che la aiu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 come fa Jessic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i può utilizzare tutti i dispositivi che vengono comandati da un telecomando a raggi infrarossi. Ogni dispositivo ha il suo telecomando in genere diverso dagli alt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Jessica usa un unico dispositivo che funziona a raggi infraros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  si tratta di un “super telecomando” perché può memorizzare su di se le funzioni di altri telecomandi a raggi infraros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ò funzionare a anche a scansione (i tasti vengono evidenziati in modo successivo e quando viene evidenziato il tasto che interessa, viene scelto con un ausilio/interrutt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mente per questo caso abbiamo scelto un dispositivo comandabile a soffio simile a quello usato per gestire il computer dato che lei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ndi con un unico sistema può gestire in autonomia diversi dispositivi comandabili a infrarossi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sintetizzare, abbiamo scelto due dispositiv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o per quando Jessica è a letto, dove passa la maggior parte del suo t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 l’altro per quando è sulla carrozzina e desidera usare il cp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è trattato di un percorso lungo, strutturato e molto articolato. Il percorso ha assunto la forma di un progetto originato da una richiesta iniziale coordinato e curato da ASPHI con obiettivi, compiti e attività specifici. Noi abbiamo fatto la presa in carico. Questo percorso è stato guidato da due concetti:   Questa è una mappa che rappresenta tutto quello che è stato fatto. Naturalmente non è possibile soffermarsi. Volevamo dare un’idea della sua compless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he ruolo abbiamo avuto in questo progetto? abbiamo svolto il ruolo del system integr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bbiamo usato una espressione che si usa nel linguaggio informati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rto abbiamo fatto l’ integrazione della parte tecnica informatica con annessi e connessi (competenze nostre e quelle delle persone e organizzazioni con cui siamo in contatto e collaboriamo ad es. GLIC e di casa Amica  ) per fare in modo che i vari sistemi tecnologici individuati possano “parlare tra loro” e in questo caso ci siamo basati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 non solo, abbiamo fatto anche l’integrazione delle aspettative che le persone avevano (non solo di Jessica, ma anche di tutti i suoi cari: genitori, insegnanti, operatori, assistenti, …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tegrazione delle risorse che sono tante ma anche di quelle economiche , ad esempio è stato necessario trovare uno sponsor per l’acquisto degli strumenti v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genere si usa nell’information technology estendendola a questo progetto perché in effetti c’è una parte informatica in questo percorso, ma non so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è trattato di un progetto in cui ASPHI ha svolto un ruolo di Integratore dei vari Sistemi (cioè oltre alle proprie conoscenze e competenze, ha tenuto conto di molte altre competenze presenti sul territorio nazionale) e locale con cui c’è un’abitudine alla collaborazione tra cui “Casa Amica”. Il percorso ha cercato di dare risposta alle richieste, aspettative e desideri di Jessica e dei suoi cari coinvolgendo persone e tecnolog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a è la persona. Jessica è una ragazza che oggi ha 23 anni. ….la sua situazione di partenza quando l’abbiamo incontrata era questa: diapo success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risultato di questo progetto/percorso è che Jessica ha raggiunto una autonomia personale maggiore rispetto ai desideri che aveva espresso: poter studiare in autonomia con l’uso del computer e poter gestire da sola alcuni strumenti della vita quotidiana: Tv, videoregistratore, stereo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ha portato ad una soddisfazione da parte di Jessica e dei suoi cari rispetto al percorso fatto insi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 il risultato finale è stato anche di aver agganciato Jessica ad un sistema d’uso di tecnologie e che le consentirà anche in futuro di potersi avvalere degli aiuti che possono derivare dalle tecnologi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biamo voluto documentare tutto quello che è stato fatto e stiamo completando la documentazione che sarà inserita presto sul sito di ASPHI nella sezione Docu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 nella sua casa passando la maggior parte del suo tempo a letto e alcuni momenti in carrozzina, necessita di aiuto e assistenza continui. Tutto ciò perché 6 anni fa ha avuto un incidente stradale (è stata investita) che l’ha portata ad uno stato di immobilità quasi tot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ò muovere leggermente il capo, parla sussurrando senza emissione sonora. Controlla la mimica facciale e  può muovere le labbra con finezza dei movimen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oi l’abbiamo incontrato Jessica e abbiamo conosciuto una ragazza con grande vit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Jessica ha anche desideri e aspettativ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a voluto terminare la  scuola superiore. Aveva degli insegnanti che si occupavano dei suoi apprendimenti, ma Jessica dipendeva completamente dai suoi insegnanti che scrivevano su sua dettatura e leggevano per le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ando l’abbiamo incontrata aveva anche il desiderio di usare il computer che era in casa , ma era molto sfiduciata verso l’uso del computer a causa di precedenti esperienze negative: erano stati acquistati ausili che la ragazza non ha mai utilizzato e non riesce tuttora ad utilizz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la situazione di Jessica oggi… vediamo cosa può fare dopo il percorso fatto insi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o è un messaggio e-mail che Jessica ci ha inviato all’inizio della scorsa e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iao Paola,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li studi vanno abbastanza bene. Ho scritto un tema con l'ausilio. Sono riuscita a scriverlo tutta da sola mettendoci più o meno un paio d'ore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 ti fa piacere te lo spedisco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che la mia mamma ti saluta tanto, quando vedo Tina te la saluto ( mi fa sempre morire dal ridere)”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o è uno dei tanti messaggi e-mail che Jessica ci ha inviato. Scrivendo con questa modalità: andare alla diapositiva success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potete vedere Jessica usa un ausilio che le consente di gestire il puntatore con il movimento delle labbra e, per scrivere, usa una tastiera che compare a video e su cui le lettere vengono selezionate con il soff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CC2-7260-47FD-8092-41AF5E29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AA0-9632-461D-B651-DDC6439B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1E8-1BC6-4D70-BBEF-0C34730F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3E5-B728-4BFD-8444-CEC2E5F4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6A8-FFE1-4276-8BA3-045ABC7A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89D-4862-4210-9A9B-17B6E5D7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531-3AD5-43DF-A0CA-14C803A2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FE1-5A56-4336-9807-9EFE06FB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B4E-A86D-46EC-9D36-319DDB72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965-EC8C-4938-A884-C1F19F12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B30-3C14-4EE5-9D48-CF070263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1F2-89B4-45E5-9DEC-251D3D47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A486-1DBD-425A-A251-D00CBD705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6.jpeg"/><Relationship Id="rId5" Type="http://schemas.openxmlformats.org/officeDocument/2006/relationships/image" Target="../media/image21.jpeg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72f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46320" y="196920"/>
            <a:ext cx="516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Mistral"/>
              </a:rPr>
              <a:t>HANDImatica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6000" y="2443320"/>
            <a:ext cx="82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La domotica come punto di arriv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in un percorso di System Integ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52200" y="4000680"/>
            <a:ext cx="41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aola Angelucci - ASP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41000" y="6394320"/>
            <a:ext cx="492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logna, Palazzo dei Congressi,  26 novembre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2360" y="2708280"/>
            <a:ext cx="48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Ma non solo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72f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8782200" cy="4968720"/>
            <a:chOff x="0" y="0"/>
            <a:chExt cx="8782200" cy="4968720"/>
          </a:xfrm>
        </p:grpSpPr>
        <p:sp>
          <p:nvSpPr>
            <p:cNvPr id="97" name=""/>
            <p:cNvSpPr/>
            <p:nvPr/>
          </p:nvSpPr>
          <p:spPr>
            <a:xfrm>
              <a:off x="1446120" y="0"/>
              <a:ext cx="6073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Ora Jessica comanda gli oggett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dell’ambiente domes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0" y="1295280"/>
              <a:ext cx="3657600" cy="28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3276720" y="3809880"/>
              <a:ext cx="289548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6095880" y="1311120"/>
              <a:ext cx="2686320" cy="264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11280" y="29242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3581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72f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6120" y="0"/>
            <a:ext cx="607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a Jessica comanda gli ogget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ll’ambiente dome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303200"/>
            <a:ext cx="2819520" cy="2192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00400" y="2452680"/>
            <a:ext cx="2666880" cy="106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248520" y="1461960"/>
            <a:ext cx="2533680" cy="24973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638680" y="3962520"/>
            <a:ext cx="1828440" cy="2104920"/>
            <a:chOff x="5638680" y="3962520"/>
            <a:chExt cx="1828440" cy="210492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5638680" y="4724280"/>
              <a:ext cx="137160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flipH="1">
              <a:off x="6857640" y="3962520"/>
              <a:ext cx="609480" cy="914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9880" y="3581280"/>
            <a:ext cx="1157400" cy="2705400"/>
            <a:chOff x="3809880" y="3581280"/>
            <a:chExt cx="1157400" cy="2705400"/>
          </a:xfrm>
        </p:grpSpPr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3809880" y="5105520"/>
              <a:ext cx="11574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343400" y="3581280"/>
              <a:ext cx="0" cy="1295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90720" y="3581280"/>
            <a:ext cx="1752480" cy="2764080"/>
            <a:chOff x="990720" y="3581280"/>
            <a:chExt cx="1752480" cy="2764080"/>
          </a:xfrm>
        </p:grpSpPr>
        <p:pic>
          <p:nvPicPr>
            <p:cNvPr id="114" name="" descr=""/>
            <p:cNvPicPr/>
            <p:nvPr/>
          </p:nvPicPr>
          <p:blipFill>
            <a:blip r:embed="rId6"/>
            <a:stretch/>
          </p:blipFill>
          <p:spPr>
            <a:xfrm>
              <a:off x="990720" y="5181480"/>
              <a:ext cx="175248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523880" y="3581280"/>
              <a:ext cx="22860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468360" y="1844640"/>
            <a:ext cx="6048360" cy="4753080"/>
            <a:chOff x="468360" y="1844640"/>
            <a:chExt cx="6048360" cy="4753080"/>
          </a:xfrm>
        </p:grpSpPr>
        <p:sp>
          <p:nvSpPr>
            <p:cNvPr id="118" name=""/>
            <p:cNvSpPr/>
            <p:nvPr/>
          </p:nvSpPr>
          <p:spPr>
            <a:xfrm>
              <a:off x="468360" y="1844640"/>
              <a:ext cx="6048360" cy="4753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685800" y="1981080"/>
            <a:ext cx="5638680" cy="451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981080"/>
                      <a:ext cx="5638680" cy="451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1" name=""/>
          <p:cNvSpPr/>
          <p:nvPr/>
        </p:nvSpPr>
        <p:spPr>
          <a:xfrm>
            <a:off x="455400" y="228600"/>
            <a:ext cx="80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er la domotica è stato scelto un dispos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he funziona a raggi infraro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495680" y="1676520"/>
          <a:ext cx="441972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76520"/>
                    <a:ext cx="441972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161600" y="86508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 “super telecomand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1523880"/>
            <a:ext cx="8779680" cy="4879080"/>
            <a:chOff x="0" y="1523880"/>
            <a:chExt cx="8779680" cy="4879080"/>
          </a:xfrm>
        </p:grpSpPr>
        <p:grpSp>
          <p:nvGrpSpPr>
            <p:cNvPr id="127" name=""/>
            <p:cNvGrpSpPr/>
            <p:nvPr/>
          </p:nvGrpSpPr>
          <p:grpSpPr>
            <a:xfrm>
              <a:off x="0" y="1523880"/>
              <a:ext cx="4038480" cy="4038840"/>
              <a:chOff x="0" y="1523880"/>
              <a:chExt cx="4038480" cy="403884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523880"/>
                <a:ext cx="4038480" cy="4038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1676520"/>
                <a:ext cx="2133720" cy="208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920" y="3352680"/>
                <a:ext cx="2895480" cy="192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2590920"/>
                <a:ext cx="1604880" cy="163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3200400" y="2514600"/>
              <a:ext cx="1300320" cy="1371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0280" y="5334120"/>
              <a:ext cx="428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he può memorizza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Altri telecomand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304920"/>
          <a:ext cx="45720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572000" cy="36576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514760" y="4149720"/>
            <a:ext cx="4016520" cy="2514240"/>
            <a:chOff x="4514760" y="4149720"/>
            <a:chExt cx="4016520" cy="2514240"/>
          </a:xfrm>
        </p:grpSpPr>
        <p:sp>
          <p:nvSpPr>
            <p:cNvPr id="138" name=""/>
            <p:cNvSpPr/>
            <p:nvPr/>
          </p:nvSpPr>
          <p:spPr>
            <a:xfrm>
              <a:off x="4514760" y="6021360"/>
              <a:ext cx="401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Interruttore a soffi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888080" y="4149720"/>
              <a:ext cx="3429000" cy="19051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140" name=""/>
          <p:cNvSpPr/>
          <p:nvPr/>
        </p:nvSpPr>
        <p:spPr>
          <a:xfrm flipV="1">
            <a:off x="2050920" y="692280"/>
            <a:ext cx="1067040" cy="3808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95640" y="960480"/>
            <a:ext cx="1066680" cy="3808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20360" y="1052640"/>
            <a:ext cx="29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ò funzio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scan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1341360"/>
            <a:ext cx="287640" cy="142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1413000"/>
            <a:ext cx="287280" cy="142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1557360"/>
            <a:ext cx="287280" cy="142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6321600"/>
            <a:ext cx="539640" cy="53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9280" y="4653000"/>
            <a:ext cx="338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ò ess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and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 sensori este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304920"/>
            <a:ext cx="9144000" cy="2779560"/>
            <a:chOff x="0" y="304920"/>
            <a:chExt cx="9144000" cy="277956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0" y="304920"/>
              <a:ext cx="2533680" cy="19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700360" y="1676520"/>
              <a:ext cx="32623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6400800" y="380880"/>
              <a:ext cx="2743200" cy="27036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2" name=""/>
          <p:cNvGraphicFramePr/>
          <p:nvPr/>
        </p:nvGraphicFramePr>
        <p:xfrm>
          <a:off x="1828800" y="3809880"/>
          <a:ext cx="4343400" cy="281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809880"/>
                    <a:ext cx="434340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788000" y="3933720"/>
            <a:ext cx="4356000" cy="292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0"/>
            <a:ext cx="4356000" cy="378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860640"/>
            <a:ext cx="4716360" cy="2997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4716360" cy="3860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71636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8600" y="304920"/>
            <a:ext cx="4343400" cy="3414600"/>
            <a:chOff x="228600" y="304920"/>
            <a:chExt cx="4343400" cy="341460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514600" cy="19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228600" y="2895480"/>
              <a:ext cx="205740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2666880" y="1752480"/>
              <a:ext cx="1905120" cy="187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2819160" cy="156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324080" y="595008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l l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44920" y="4365720"/>
            <a:ext cx="3276000" cy="2237040"/>
            <a:chOff x="5344920" y="4365720"/>
            <a:chExt cx="3276000" cy="2237040"/>
          </a:xfrm>
        </p:grpSpPr>
        <p:sp>
          <p:nvSpPr>
            <p:cNvPr id="168" name=""/>
            <p:cNvSpPr/>
            <p:nvPr/>
          </p:nvSpPr>
          <p:spPr>
            <a:xfrm>
              <a:off x="5344920" y="6021360"/>
              <a:ext cx="32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alla carrozz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5364000" y="4365720"/>
              <a:ext cx="3095640" cy="117468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5580000" y="765000"/>
            <a:ext cx="2532240" cy="2519640"/>
            <a:chOff x="5580000" y="765000"/>
            <a:chExt cx="2532240" cy="2519640"/>
          </a:xfrm>
        </p:grpSpPr>
        <p:grpSp>
          <p:nvGrpSpPr>
            <p:cNvPr id="171" name=""/>
            <p:cNvGrpSpPr/>
            <p:nvPr/>
          </p:nvGrpSpPr>
          <p:grpSpPr>
            <a:xfrm>
              <a:off x="5580000" y="836640"/>
              <a:ext cx="2532240" cy="2448000"/>
              <a:chOff x="5580000" y="836640"/>
              <a:chExt cx="2532240" cy="2448000"/>
            </a:xfrm>
          </p:grpSpPr>
          <p:pic>
            <p:nvPicPr>
              <p:cNvPr id="17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83280" y="836640"/>
                <a:ext cx="2028960" cy="21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580000" y="2708280"/>
                <a:ext cx="2521080" cy="576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012000" y="765000"/>
              <a:ext cx="2089080" cy="1943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43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90160" y="404640"/>
            <a:ext cx="61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ASPHI: System Integrat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7440" y="2143080"/>
            <a:ext cx="7725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tegrazione dei sistemi tecnologici e informa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tegrazione delle aspet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tegrazione delle risorse (anche economi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29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tuazione di part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43280" y="0"/>
            <a:ext cx="4267080" cy="3962520"/>
            <a:chOff x="4643280" y="0"/>
            <a:chExt cx="4267080" cy="3962520"/>
          </a:xfrm>
        </p:grpSpPr>
        <p:sp>
          <p:nvSpPr>
            <p:cNvPr id="54" name=""/>
            <p:cNvSpPr/>
            <p:nvPr/>
          </p:nvSpPr>
          <p:spPr>
            <a:xfrm>
              <a:off x="6015240" y="0"/>
              <a:ext cx="183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Jessic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643280" y="685800"/>
              <a:ext cx="4267080" cy="3276720"/>
              <a:chOff x="4643280" y="685800"/>
              <a:chExt cx="4267080" cy="3276720"/>
            </a:xfrm>
          </p:grpSpPr>
          <p:sp>
            <p:nvSpPr>
              <p:cNvPr id="56" name=""/>
              <p:cNvSpPr/>
              <p:nvPr/>
            </p:nvSpPr>
            <p:spPr>
              <a:xfrm>
                <a:off x="4643280" y="685800"/>
                <a:ext cx="4267080" cy="3276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95560" y="838080"/>
                <a:ext cx="3962520" cy="297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59280" y="426960"/>
            <a:ext cx="31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sultato fi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69840" y="2060640"/>
            <a:ext cx="724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giore autonomia di Jess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ddisfazione di Jessica e dei suoi c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95480" y="4427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5680" y="5010120"/>
            <a:ext cx="86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vviamento di un processo d’uso di tecn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76080" y="1484280"/>
            <a:ext cx="77443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ocumentazio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www.asphi.it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 sezione Docum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7080" y="3213000"/>
            <a:ext cx="4217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obilità quasi to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enza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43280" y="0"/>
            <a:ext cx="4267080" cy="3962520"/>
            <a:chOff x="4643280" y="0"/>
            <a:chExt cx="4267080" cy="3962520"/>
          </a:xfrm>
        </p:grpSpPr>
        <p:sp>
          <p:nvSpPr>
            <p:cNvPr id="61" name=""/>
            <p:cNvSpPr/>
            <p:nvPr/>
          </p:nvSpPr>
          <p:spPr>
            <a:xfrm>
              <a:off x="6015600" y="0"/>
              <a:ext cx="170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Jessic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4643280" y="685800"/>
              <a:ext cx="4267080" cy="3276720"/>
              <a:chOff x="4643280" y="685800"/>
              <a:chExt cx="4267080" cy="3276720"/>
            </a:xfrm>
          </p:grpSpPr>
          <p:sp>
            <p:nvSpPr>
              <p:cNvPr id="63" name=""/>
              <p:cNvSpPr/>
              <p:nvPr/>
            </p:nvSpPr>
            <p:spPr>
              <a:xfrm>
                <a:off x="4643280" y="685800"/>
                <a:ext cx="4267080" cy="3276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95560" y="838080"/>
                <a:ext cx="3962520" cy="297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72f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86400" y="0"/>
            <a:ext cx="3429000" cy="3048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84640"/>
            <a:ext cx="857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ò muovere leggermente il c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a la mimica facciale e muove le labb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ò parlare  sussurr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191040" cy="264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72f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6477120" y="0"/>
            <a:ext cx="2666880" cy="2286000"/>
            <a:chOff x="6477120" y="0"/>
            <a:chExt cx="2666880" cy="2286000"/>
          </a:xfrm>
        </p:grpSpPr>
        <p:sp>
          <p:nvSpPr>
            <p:cNvPr id="71" name=""/>
            <p:cNvSpPr/>
            <p:nvPr/>
          </p:nvSpPr>
          <p:spPr>
            <a:xfrm>
              <a:off x="6477120" y="0"/>
              <a:ext cx="2666880" cy="228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595200" y="171360"/>
              <a:ext cx="2481840" cy="19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250920" y="299736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va ripreso 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ndenza dagli insegn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va il desiderio di usare il 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 non poteva usa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01520" y="1779480"/>
            <a:ext cx="45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ideri e aspett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3789360"/>
            <a:ext cx="1079640" cy="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300640"/>
            <a:ext cx="1079640" cy="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sica og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0400" y="2743200"/>
            <a:ext cx="51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ao Paola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i studi vanno abbastanza bene. Ho scritto un tema con l'ausilio. Sono riuscita a scriverlo tutto da sola mettendoci più o meno un paio d'o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 fa piacere te lo spedisc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he la mia mamma ti saluta tanto, quando vedo Tina te la saluto ( mi fa sempre morire dal ride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363528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63528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4000" y="299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2200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604360" y="632160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001800" cy="6602760"/>
            <a:chOff x="0" y="0"/>
            <a:chExt cx="9001800" cy="6602760"/>
          </a:xfrm>
        </p:grpSpPr>
        <p:grpSp>
          <p:nvGrpSpPr>
            <p:cNvPr id="88" name=""/>
            <p:cNvGrpSpPr/>
            <p:nvPr/>
          </p:nvGrpSpPr>
          <p:grpSpPr>
            <a:xfrm>
              <a:off x="0" y="0"/>
              <a:ext cx="8100720" cy="5949720"/>
              <a:chOff x="0" y="0"/>
              <a:chExt cx="8100720" cy="5949720"/>
            </a:xfrm>
          </p:grpSpPr>
          <p:sp>
            <p:nvSpPr>
              <p:cNvPr id="89" name=""/>
              <p:cNvSpPr/>
              <p:nvPr/>
            </p:nvSpPr>
            <p:spPr>
              <a:xfrm>
                <a:off x="0" y="0"/>
                <a:ext cx="8100720" cy="594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0" name=""/>
              <p:cNvGraphicFramePr/>
              <p:nvPr/>
            </p:nvGraphicFramePr>
            <p:xfrm>
              <a:off x="283680" y="380160"/>
              <a:ext cx="7532640" cy="5292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83680" y="380160"/>
                        <a:ext cx="7532640" cy="52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2" name=""/>
            <p:cNvSpPr/>
            <p:nvPr/>
          </p:nvSpPr>
          <p:spPr>
            <a:xfrm>
              <a:off x="3490200" y="6021360"/>
              <a:ext cx="551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e Jessica usa il compu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6321600"/>
            <a:ext cx="5396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0:19:17Z</dcterms:created>
  <dc:creator>ASPHI</dc:creator>
  <dc:description/>
  <dc:language>en-US</dc:language>
  <cp:lastModifiedBy>ASPHI</cp:lastModifiedBy>
  <dcterms:modified xsi:type="dcterms:W3CDTF">2004-11-24T11:29:19Z</dcterms:modified>
  <cp:revision>70</cp:revision>
  <dc:subject/>
  <dc:title>Diapositiva 1</dc:title>
</cp:coreProperties>
</file>