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ADFA-4DC4-4934-84A9-46A249262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F85F-96B3-4450-A209-D6D0C894D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9014-8942-4140-BCA1-A411A0858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E66E-4697-4EEE-9293-FCF7D743A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BDC5B-F9CC-4CED-BE58-E0F626C05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26B82-E78B-4521-9C4E-E108EE017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AB68C-60F5-4B3F-98DF-18C008F92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83498-E773-4CC0-9E06-80103A124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8A49A-5BF9-4AB8-8B7E-066A1487D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70083-D4A8-4869-AE9A-9592C0776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7912E-7C72-4DA9-8037-0CA54DA2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C6FB-FAB8-4334-AFE8-E6CBB8BE1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69DCF-D707-4FC8-8D0F-98B156A4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66D3E-E32E-4351-B1B7-23C616FE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6E186-5072-4A94-BF26-1A2AAB428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8D99F-2AAE-4352-87C4-152F305C0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A0285-7F0E-4837-AC1D-96BC51901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0C38-B11E-4E47-8EC9-E1F38E494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986D-D1BA-468E-A32D-CE021A358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EF23-25D9-4E59-AE06-002A13638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FE20-6912-4CEE-893C-0C53CC05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4B9A-217B-4C67-A919-A97FF772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66E4-C89E-4FB9-95DA-9C2FA15D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F0A3-A49B-42E9-B5FC-1167E1A5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E7AF3-74CF-4109-8A07-C9623742C72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B05B9-62FB-4340-B3BF-AA4C55F56F2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-181080" y="1557360"/>
            <a:ext cx="9506160" cy="792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Tahoma"/>
              </a:rPr>
              <a:t>Rete regionale dei Centri di informazione e consulenza per l’adattamento dell’ambiente domestico per disabili e anzian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65640" y="193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50920" y="189000"/>
          <a:ext cx="3097080" cy="56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89000"/>
                    <a:ext cx="3097080" cy="56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169560" y="836640"/>
            <a:ext cx="3215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Direzione Generale Sanità e Politiche Social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Servizio Pianificazione e Sviluppo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dei servizi sociali e socio - sanitar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627280" y="3357720"/>
            <a:ext cx="612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</a:rPr>
              <a:t>IL CORSO DI FORMAZION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</a:rPr>
              <a:t>PER GLI OPERATOR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</a:rPr>
              <a:t>DELLE EQU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564000" y="189000"/>
            <a:ext cx="1888920" cy="1105560"/>
            <a:chOff x="3564000" y="189000"/>
            <a:chExt cx="1888920" cy="1105560"/>
          </a:xfrm>
        </p:grpSpPr>
        <p:pic>
          <p:nvPicPr>
            <p:cNvPr id="166" name="" descr=""/>
            <p:cNvPicPr/>
            <p:nvPr/>
          </p:nvPicPr>
          <p:blipFill>
            <a:blip r:embed="rId3"/>
            <a:stretch/>
          </p:blipFill>
          <p:spPr>
            <a:xfrm>
              <a:off x="4066920" y="189000"/>
              <a:ext cx="86508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3564000" y="987480"/>
              <a:ext cx="188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ffff"/>
                  </a:solidFill>
                  <a:latin typeface="Arial Narrow"/>
                  <a:ea typeface="Times New Roman"/>
                </a:rPr>
                <a:t>Centro Regionale Ausil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5508720" y="260280"/>
            <a:ext cx="1116000" cy="9111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106440" y="5445000"/>
            <a:ext cx="49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g. Claudio Bitell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entro Regionale Ausili - Ausilioteca AIAS B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icli e Aree tematiche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92480" y="689040"/>
            <a:ext cx="15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99"/>
                </a:solidFill>
                <a:latin typeface="Verdana"/>
              </a:rPr>
              <a:t>Es. I Cic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311200" y="692280"/>
            <a:ext cx="466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–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1° LIVELLO - tutti gli operato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250920" y="1700280"/>
          <a:ext cx="9361440" cy="360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700280"/>
                    <a:ext cx="936144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icli e Aree tematiche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92480" y="689040"/>
            <a:ext cx="15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99"/>
                </a:solidFill>
                <a:latin typeface="Verdana"/>
              </a:rPr>
              <a:t>Es. I Cic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96680" y="1413000"/>
            <a:ext cx="50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–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2° LIVELLO: operatori seleziona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2843280" y="1916280"/>
          <a:ext cx="4105080" cy="468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1916280"/>
                    <a:ext cx="4105080" cy="46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2° ciclo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   PROGRAMMA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5160" y="1268280"/>
            <a:ext cx="31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–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minimo 2 operato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2545560" y="1628640"/>
            <a:ext cx="6368400" cy="3475800"/>
            <a:chOff x="2545560" y="1628640"/>
            <a:chExt cx="6368400" cy="3475800"/>
          </a:xfrm>
        </p:grpSpPr>
        <p:sp>
          <p:nvSpPr>
            <p:cNvPr id="251" name=""/>
            <p:cNvSpPr/>
            <p:nvPr/>
          </p:nvSpPr>
          <p:spPr>
            <a:xfrm>
              <a:off x="5724360" y="5084640"/>
              <a:ext cx="295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24360" y="1989000"/>
              <a:ext cx="295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254800" y="2924280"/>
              <a:ext cx="65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EC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06720" y="1628640"/>
              <a:ext cx="110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NOV . 200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495200" y="4797360"/>
              <a:ext cx="108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ffff"/>
                  </a:solidFill>
                  <a:latin typeface="Verdana"/>
                </a:rPr>
                <a:t>MAG. 200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477960" y="2421000"/>
              <a:ext cx="161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Casi di studi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545560" y="3284640"/>
              <a:ext cx="319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pprofondimento contenut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900160" y="4292640"/>
              <a:ext cx="25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Confronti operativ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plit dir="out" orient="vert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693360" y="1916280"/>
            <a:ext cx="527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greteria relatori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: Centro Regionale Ausili - B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51240" y="2852640"/>
            <a:ext cx="651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TUTORS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: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Ft  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    Lucia Sciuto (CR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Ed. prof.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    Viviana Brandan (CR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Arch.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    Tiziana Cretti (CRIB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Coord. Serv. Soc.  Atos Cattini (CRIB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86960" y="2349360"/>
            <a:ext cx="72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greteria allievi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: Centro Informazione Regionale Accessibilità - 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39280" y="907920"/>
            <a:ext cx="754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Organizzatori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RER Ass. Pol. Sociali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Barbara Schiav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Centro Regionale Ausili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Claudio Bitell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Centro Reg. Accessibilità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Leris Fantin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L’organizzazione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95280" y="4869000"/>
            <a:ext cx="822960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Grazie per l’attenzio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619280" y="5805360"/>
            <a:ext cx="568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Verdana"/>
              </a:rPr>
              <a:t>Ing. Claudio Bitelli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Verdana"/>
              </a:rPr>
              <a:t>Centro Regionale Ausili - Ausilioteca AIAS B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99"/>
                </a:solidFill>
                <a:latin typeface="Verdana"/>
              </a:rPr>
              <a:t>www.ausilioteca.org/centroregionaleausil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99"/>
                </a:solidFill>
                <a:latin typeface="Arial"/>
              </a:rPr>
              <a:t>Un’ impresa complessa…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796000" y="2060640"/>
            <a:ext cx="3128760" cy="18716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41000" y="1341360"/>
            <a:ext cx="65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Almeno 10 équipe multidisciplinari “ad hoc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58120" y="5373720"/>
            <a:ext cx="641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mpetenza, esperienza, livelli di impeg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02520" y="3933720"/>
            <a:ext cx="798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Figure professionali diver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(fisioterapisti, tecnici progettisti, operatori sociali, cooordinatori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tecnici elettronici, 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83200" y="2421000"/>
            <a:ext cx="4851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tuazioni locali non omogene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Servizi, raccordi inter-istituzional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Gli obbiettivi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22320" y="5084640"/>
            <a:ext cx="6185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3. Consentire l’attivazione sincrona e graduale di servizi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 breve termine (5 mesi): INFORMAZI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 medio termine (10 mesi) : CONSULEN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1840" y="1197000"/>
            <a:ext cx="6255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arantire l’attivazione di attività di servizi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mogenee n regione attraverso la condivisione di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RIENTAMENTI CULTURAL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NOSCENZE TECNI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ETODOLOGIE OPERATIV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TRUMENTI DI LAVORO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305080" y="3573360"/>
            <a:ext cx="66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.  Favorire la nascita o il consolidamento di forme d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operazione inter-professionale e inter-istituzional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36600" y="522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I contenuti e i moduli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627280" y="3284640"/>
            <a:ext cx="6516720" cy="12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Conoscere le soluzioni tecnich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901"/>
              </a:spcBef>
              <a:buClr>
                <a:srgbClr val="ffff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usili e soluzion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901"/>
              </a:spcBef>
              <a:buClr>
                <a:srgbClr val="ffff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ccessibilit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5280" y="2565360"/>
            <a:ext cx="5113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Conoscere le Norma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627280" y="4724280"/>
            <a:ext cx="597708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Fare servizio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l lavoro in équi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’approccio al bisog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’elaborazione della soluzi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li strumenti di lavo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981000"/>
            <a:ext cx="8137440" cy="12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Condividere l’approcc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901"/>
              </a:spcBef>
              <a:buClr>
                <a:srgbClr val="ffff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na base di cultura comun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901"/>
              </a:spcBef>
              <a:buClr>
                <a:srgbClr val="ffff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l sistema e le risorse esisten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547640" y="333360"/>
            <a:ext cx="61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Verdana"/>
              </a:rPr>
              <a:t>I possibili punti di vis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468360" y="1413000"/>
            <a:ext cx="8207280" cy="3854880"/>
            <a:chOff x="468360" y="1413000"/>
            <a:chExt cx="8207280" cy="3854880"/>
          </a:xfrm>
        </p:grpSpPr>
        <p:sp>
          <p:nvSpPr>
            <p:cNvPr id="187" name=""/>
            <p:cNvSpPr/>
            <p:nvPr/>
          </p:nvSpPr>
          <p:spPr>
            <a:xfrm>
              <a:off x="468360" y="2421000"/>
              <a:ext cx="331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ersona disabile / famigli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516720" y="3862440"/>
              <a:ext cx="215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ercat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332000" y="400536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ervizi territorial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140360" y="4869000"/>
              <a:ext cx="136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Normativ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164360" y="2421000"/>
              <a:ext cx="12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rodott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20671800">
              <a:off x="3060720" y="2060280"/>
              <a:ext cx="3456000" cy="2519280"/>
            </a:xfrm>
            <a:custGeom>
              <a:avLst/>
              <a:gdLst>
                <a:gd name="textAreaLeft" fmla="*/ 864000 w 3456000"/>
                <a:gd name="textAreaRight" fmla="*/ 2592000 w 3456000"/>
                <a:gd name="textAreaTop" fmla="*/ 629640 h 2519280"/>
                <a:gd name="textAreaBottom" fmla="*/ 1889640 h 251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5400"/>
                  </a:moveTo>
                  <a:lnTo>
                    <a:pt x="9400" y="5400"/>
                  </a:lnTo>
                  <a:lnTo>
                    <a:pt x="9400" y="2700"/>
                  </a:lnTo>
                  <a:lnTo>
                    <a:pt x="8100" y="2700"/>
                  </a:lnTo>
                  <a:lnTo>
                    <a:pt x="10800" y="0"/>
                  </a:lnTo>
                  <a:lnTo>
                    <a:pt x="13500" y="2700"/>
                  </a:lnTo>
                  <a:lnTo>
                    <a:pt x="12200" y="2700"/>
                  </a:lnTo>
                  <a:lnTo>
                    <a:pt x="12200" y="5400"/>
                  </a:lnTo>
                  <a:lnTo>
                    <a:pt x="16200" y="5400"/>
                  </a:lnTo>
                  <a:lnTo>
                    <a:pt x="16200" y="9400"/>
                  </a:lnTo>
                  <a:lnTo>
                    <a:pt x="18900" y="9400"/>
                  </a:lnTo>
                  <a:lnTo>
                    <a:pt x="18900" y="8100"/>
                  </a:lnTo>
                  <a:lnTo>
                    <a:pt x="21600" y="10800"/>
                  </a:lnTo>
                  <a:lnTo>
                    <a:pt x="18900" y="13500"/>
                  </a:lnTo>
                  <a:lnTo>
                    <a:pt x="18900" y="12200"/>
                  </a:lnTo>
                  <a:lnTo>
                    <a:pt x="16200" y="12200"/>
                  </a:lnTo>
                  <a:lnTo>
                    <a:pt x="16200" y="16200"/>
                  </a:lnTo>
                  <a:lnTo>
                    <a:pt x="12200" y="16200"/>
                  </a:lnTo>
                  <a:lnTo>
                    <a:pt x="12200" y="18900"/>
                  </a:lnTo>
                  <a:lnTo>
                    <a:pt x="13500" y="18900"/>
                  </a:lnTo>
                  <a:lnTo>
                    <a:pt x="10800" y="21600"/>
                  </a:lnTo>
                  <a:lnTo>
                    <a:pt x="8100" y="18900"/>
                  </a:lnTo>
                  <a:lnTo>
                    <a:pt x="9400" y="18900"/>
                  </a:lnTo>
                  <a:lnTo>
                    <a:pt x="9400" y="16200"/>
                  </a:lnTo>
                  <a:lnTo>
                    <a:pt x="5400" y="16200"/>
                  </a:lnTo>
                  <a:lnTo>
                    <a:pt x="5400" y="12200"/>
                  </a:lnTo>
                  <a:lnTo>
                    <a:pt x="2700" y="12200"/>
                  </a:lnTo>
                  <a:lnTo>
                    <a:pt x="2700" y="13500"/>
                  </a:lnTo>
                  <a:lnTo>
                    <a:pt x="0" y="10800"/>
                  </a:lnTo>
                  <a:lnTo>
                    <a:pt x="2700" y="8100"/>
                  </a:lnTo>
                  <a:lnTo>
                    <a:pt x="2700" y="9400"/>
                  </a:lnTo>
                  <a:lnTo>
                    <a:pt x="5400" y="9400"/>
                  </a:ln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nalisi da più punti di vist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780000" y="1413000"/>
              <a:ext cx="192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ocietà/Cultur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411640" y="4437000"/>
              <a:ext cx="1584360" cy="647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5435640" y="4365360"/>
              <a:ext cx="1297080" cy="718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7093080" y="2781360"/>
              <a:ext cx="287280" cy="1008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 flipV="1">
              <a:off x="5651640" y="1771200"/>
              <a:ext cx="1512720" cy="576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2556000" y="1773360"/>
              <a:ext cx="1224000" cy="57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2195640" y="2852640"/>
              <a:ext cx="216000" cy="1079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521280" y="6026040"/>
            <a:ext cx="812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SPETTI TEORICI – ASPETTI APPLICATIVI – LIVELLI DI APPROFONDIM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L’impostazione del corso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23320" y="1052640"/>
            <a:ext cx="79923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Formazione / aggiornamento profess. (ECM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84560" y="5805360"/>
            <a:ext cx="669528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rganizzazione, supporto e docenz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a parte dei Centri di II livel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71400" y="1484280"/>
            <a:ext cx="49258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50 ore – multidisciplin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50480" y="2781360"/>
            <a:ext cx="58953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ocenti di riferimento nazion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765880" y="4365720"/>
            <a:ext cx="5843880" cy="11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icli e Moduli di I e II livell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  livello: per tutte le figure professional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I livello: per figure specializzat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940040" y="2276640"/>
            <a:ext cx="5351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mpostazione teorico/prat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73440" y="3213000"/>
            <a:ext cx="34995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Tutors disciplina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907280" y="3645000"/>
            <a:ext cx="39384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alutazioni in itin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Il corso nel programma di sviluppo della rete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324000" y="981000"/>
            <a:ext cx="8820000" cy="5529240"/>
            <a:chOff x="324000" y="981000"/>
            <a:chExt cx="8820000" cy="5529240"/>
          </a:xfrm>
        </p:grpSpPr>
        <p:graphicFrame>
          <p:nvGraphicFramePr>
            <p:cNvPr id="212" name=""/>
            <p:cNvGraphicFramePr/>
            <p:nvPr/>
          </p:nvGraphicFramePr>
          <p:xfrm>
            <a:off x="324000" y="2852640"/>
            <a:ext cx="8381880" cy="3657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1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2852640"/>
                      <a:ext cx="8381880" cy="365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4" name=""/>
            <p:cNvSpPr/>
            <p:nvPr/>
          </p:nvSpPr>
          <p:spPr>
            <a:xfrm flipV="1">
              <a:off x="4356000" y="2492280"/>
              <a:ext cx="0" cy="71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19400" y="2421000"/>
              <a:ext cx="1133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Verdana"/>
                </a:rPr>
                <a:t>Attivazione équip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4788000" y="2276280"/>
              <a:ext cx="0" cy="93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920320" y="2133720"/>
              <a:ext cx="1937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ffffff"/>
                  </a:solidFill>
                  <a:latin typeface="Verdana"/>
                </a:rPr>
                <a:t>Attivaz. Informazioni su L.29 e L.13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5219640" y="2060280"/>
              <a:ext cx="0" cy="11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03640" y="1844640"/>
              <a:ext cx="21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ffffff"/>
                  </a:solidFill>
                  <a:latin typeface="Verdana"/>
                </a:rPr>
                <a:t>Valutazione domande L.29 e L.13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 flipV="1">
              <a:off x="7107120" y="1383840"/>
              <a:ext cx="6480" cy="1846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148360" y="1268280"/>
              <a:ext cx="2203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ffffff"/>
                  </a:solidFill>
                  <a:latin typeface="Verdana"/>
                </a:rPr>
                <a:t>Consulenze Adattam. Domicilio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6084720" y="1700280"/>
              <a:ext cx="0" cy="1511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140360" y="1566720"/>
              <a:ext cx="2028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ffffff"/>
                  </a:solidFill>
                  <a:latin typeface="Verdana"/>
                </a:rPr>
                <a:t>Attivaz. Consulenze  L.29 e L.13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 flipV="1">
              <a:off x="8570880" y="1149480"/>
              <a:ext cx="6480" cy="2062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300720" y="981000"/>
              <a:ext cx="2843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ffffff"/>
                  </a:solidFill>
                  <a:latin typeface="Verdana"/>
                </a:rPr>
                <a:t>Report I semestre di funzionam. a regim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Cicli e Aree tematiche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250920" y="1197000"/>
          <a:ext cx="9315360" cy="3157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97000"/>
                    <a:ext cx="9315360" cy="31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492480" y="689040"/>
            <a:ext cx="15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99"/>
                </a:solidFill>
                <a:latin typeface="Verdana"/>
              </a:rPr>
              <a:t>Es. I Cic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247680" y="4438800"/>
          <a:ext cx="9410760" cy="2084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7680" y="4438800"/>
                    <a:ext cx="941076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2296800" y="692280"/>
            <a:ext cx="45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–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1° LIVELLO -tutti gli operato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icli e Aree tematiche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79280" y="1197000"/>
          <a:ext cx="8964720" cy="338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197000"/>
                    <a:ext cx="8964720" cy="33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492480" y="689040"/>
            <a:ext cx="15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99"/>
                </a:solidFill>
                <a:latin typeface="Verdana"/>
              </a:rPr>
              <a:t>Es. I Cic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168640" y="692280"/>
            <a:ext cx="285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–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utti gli operato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4:40:53Z</dcterms:created>
  <dc:creator>cbitelli</dc:creator>
  <dc:description/>
  <dc:language>en-US</dc:language>
  <cp:lastModifiedBy>cbitelli</cp:lastModifiedBy>
  <dcterms:modified xsi:type="dcterms:W3CDTF">2004-11-24T18:39:57Z</dcterms:modified>
  <cp:revision>11</cp:revision>
  <dc:subject/>
  <dc:title>Diapositiva 1</dc:title>
</cp:coreProperties>
</file>