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720263" cy="719613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3C36-017B-4FA9-A6C2-88A08EEC3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3080" cy="1200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8280" y="2079720"/>
            <a:ext cx="826308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8280" y="4334400"/>
            <a:ext cx="826308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98B8-B12B-4BEB-A9C0-454A94B2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3080" cy="1200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8280" y="2079720"/>
            <a:ext cx="403236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2600" y="2079720"/>
            <a:ext cx="403236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8280" y="4334400"/>
            <a:ext cx="403236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2600" y="4334400"/>
            <a:ext cx="403236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8FA4-B054-44EF-BD64-16CAB674B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3080" cy="1200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8280" y="2079720"/>
            <a:ext cx="266040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22240" y="2079720"/>
            <a:ext cx="266040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5840" y="2079720"/>
            <a:ext cx="266040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8280" y="4334400"/>
            <a:ext cx="266040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22240" y="4334400"/>
            <a:ext cx="266040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5840" y="4334400"/>
            <a:ext cx="266040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6136-A602-41B6-927A-8AD6C791A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3080" cy="1200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8280" y="2079720"/>
            <a:ext cx="82630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A141-E9C7-4F58-B64F-AA926C60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3080" cy="1200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8280" y="2079720"/>
            <a:ext cx="826308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1767-0964-4FBF-BE06-026553C2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3080" cy="1200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8280" y="2079720"/>
            <a:ext cx="403236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2600" y="2079720"/>
            <a:ext cx="403236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83C9-283E-4F68-B60A-857C6E28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3080" cy="1200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F25A-CB5B-45A1-84EE-DC6264F9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8280" y="639720"/>
            <a:ext cx="8263080" cy="55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3918-0504-466E-AF9A-C5A6405F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3080" cy="1200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8280" y="2079720"/>
            <a:ext cx="403236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2600" y="2079720"/>
            <a:ext cx="403236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8280" y="4334400"/>
            <a:ext cx="403236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6E9B-E385-428F-A59E-431DC40D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3080" cy="1200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8280" y="2079720"/>
            <a:ext cx="403236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2600" y="2079720"/>
            <a:ext cx="403236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2600" y="4334400"/>
            <a:ext cx="403236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7BDD-05BD-4CD7-A0ED-31E17C82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3080" cy="1200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8280" y="2079720"/>
            <a:ext cx="403236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2600" y="2079720"/>
            <a:ext cx="403236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8280" y="4334400"/>
            <a:ext cx="826308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AB44-A9DE-4D6E-851C-278B6DB8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3080" cy="1200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8280" y="2079720"/>
            <a:ext cx="826308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 fontScale="98000"/>
          </a:bodyPr>
          <a:p>
            <a:pPr marL="354240" indent="-354240">
              <a:spcBef>
                <a:spcPts val="850"/>
              </a:spcBef>
              <a:buClr>
                <a:srgbClr val="000000"/>
              </a:buClr>
              <a:buFont typeface="Times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8240" indent="-295200">
              <a:spcBef>
                <a:spcPts val="850"/>
              </a:spcBef>
              <a:buClr>
                <a:srgbClr val="000000"/>
              </a:buClr>
              <a:buFont typeface="Times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3680" indent="-237960">
              <a:spcBef>
                <a:spcPts val="850"/>
              </a:spcBef>
              <a:buClr>
                <a:srgbClr val="000000"/>
              </a:buClr>
              <a:buFont typeface="Times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58160" indent="-236520">
              <a:spcBef>
                <a:spcPts val="850"/>
              </a:spcBef>
              <a:buClr>
                <a:srgbClr val="000000"/>
              </a:buClr>
              <a:buFont typeface="Times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31200" indent="-236160">
              <a:spcBef>
                <a:spcPts val="850"/>
              </a:spcBef>
              <a:buClr>
                <a:srgbClr val="000000"/>
              </a:buClr>
              <a:buFont typeface="Times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31200" indent="-236160">
              <a:spcBef>
                <a:spcPts val="850"/>
              </a:spcBef>
              <a:buClr>
                <a:srgbClr val="000000"/>
              </a:buClr>
              <a:buFont typeface="Times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31200" indent="-236160">
              <a:spcBef>
                <a:spcPts val="850"/>
              </a:spcBef>
              <a:buClr>
                <a:srgbClr val="000000"/>
              </a:buClr>
              <a:buFont typeface="Times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8280" y="6556320"/>
            <a:ext cx="20257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0640" y="6556320"/>
            <a:ext cx="30783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5640" y="6556320"/>
            <a:ext cx="20257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50DF39F-39BA-4151-9AB9-BD8CF48B2316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franziska.cuter@unicredit.it" TargetMode="External"/><Relationship Id="rId3" Type="http://schemas.openxmlformats.org/officeDocument/2006/relationships/hyperlink" Target="http://www.unicredit.it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20040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CSR e DISABILITA’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NEL BILANCIO SOCI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575928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logna, 26 novembre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35640" y="6610320"/>
            <a:ext cx="633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UNICREDIT IN BR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2819520"/>
            <a:ext cx="81532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o nel ’9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all’aggregazione di Credito Italiano e Rolo Banca 1473 con Cariverona, Cassa di Risparmio di Torino e Cassamarca, nel corso del ’99 il Gruppo ha aggregato anche la Cassa di Risparmio di Trento e Rovereto e la Cassa di Risparmio di Tries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Credit è il primo gruppo bancario in Italia per capitalizzazione di Borsa (oltre 25 miliardi di euro a metà settembre 2004); in Europa è uno dei primi gruppi bancari per efficienza e redditività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Credit è i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cipale gruppo bancario occidentale nell’Europa centrale e orienta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Gruppo può contare a livello globale su una rete di olt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500 sportell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 circ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0.000 dipendent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UniCredit_3D" descr=""/>
          <p:cNvPicPr/>
          <p:nvPr/>
        </p:nvPicPr>
        <p:blipFill>
          <a:blip r:embed="rId2"/>
          <a:stretch/>
        </p:blipFill>
        <p:spPr>
          <a:xfrm>
            <a:off x="2522520" y="1523880"/>
            <a:ext cx="3801960" cy="914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3520" y="2590920"/>
            <a:ext cx="8534160" cy="3886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35640" y="6610320"/>
            <a:ext cx="633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UNICREDIT E LA RESPONSABILITA’ SOC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81480" y="2085840"/>
            <a:ext cx="344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onoscimento dell’oggettivo valore sociale dell’attività della banca: investe il risparmio delle famiglie e finanzia le impre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1828800"/>
            <a:ext cx="3733920" cy="1676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09480" y="4724280"/>
            <a:ext cx="8229600" cy="1523880"/>
            <a:chOff x="609480" y="4724280"/>
            <a:chExt cx="8229600" cy="1523880"/>
          </a:xfrm>
        </p:grpSpPr>
        <p:sp>
          <p:nvSpPr>
            <p:cNvPr id="53" name=""/>
            <p:cNvSpPr/>
            <p:nvPr/>
          </p:nvSpPr>
          <p:spPr>
            <a:xfrm>
              <a:off x="762120" y="4952880"/>
              <a:ext cx="7924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ponsabilità sociale: agire da “impresa cittadino” assumendo un ruolo nuovo nel contesto in cui opera,  integrando le istanze e i bisogni della collettività e dei vari portatori di interesse nelle strategie di crescita azienda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09480" y="4724280"/>
              <a:ext cx="8229600" cy="15238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762120" y="1905120"/>
            <a:ext cx="3200400" cy="1504440"/>
            <a:chOff x="762120" y="1905120"/>
            <a:chExt cx="3200400" cy="1504440"/>
          </a:xfrm>
        </p:grpSpPr>
        <p:sp>
          <p:nvSpPr>
            <p:cNvPr id="56" name=""/>
            <p:cNvSpPr/>
            <p:nvPr/>
          </p:nvSpPr>
          <p:spPr>
            <a:xfrm>
              <a:off x="792360" y="2041920"/>
              <a:ext cx="3139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 mantenere nel tempo buoni risultati si deve creare valore per tutti gli stakehol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2120" y="1905120"/>
              <a:ext cx="3200400" cy="1504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057400" y="3581280"/>
            <a:ext cx="457200" cy="106704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733920"/>
            <a:ext cx="457200" cy="914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35640" y="6610320"/>
            <a:ext cx="633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76320"/>
            <a:ext cx="8501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4572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133720"/>
            <a:ext cx="8458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895480" y="1600200"/>
            <a:ext cx="3429000" cy="1752480"/>
            <a:chOff x="2895480" y="1600200"/>
            <a:chExt cx="3429000" cy="1752480"/>
          </a:xfrm>
        </p:grpSpPr>
        <p:sp>
          <p:nvSpPr>
            <p:cNvPr id="65" name=""/>
            <p:cNvSpPr/>
            <p:nvPr/>
          </p:nvSpPr>
          <p:spPr>
            <a:xfrm>
              <a:off x="3124080" y="1600200"/>
              <a:ext cx="29718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a società civile richiede al mondo delle imprese di offrire prodotti e servizi fruibili da tutti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95480" y="1600200"/>
              <a:ext cx="3429000" cy="1752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1447920" y="47160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NCLUSIONE SOC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19720" y="350532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4876920"/>
            <a:ext cx="87627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a banca che si impegni realmente in tal senso dev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frire servizi accessibi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are le persone con handicap nelle proprie strutture in modo da trasformare un’assunzione obbligatoria in una riso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724280"/>
            <a:ext cx="8915400" cy="1752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35640" y="6610320"/>
            <a:ext cx="633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76320"/>
            <a:ext cx="8501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4572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2133720"/>
            <a:ext cx="8458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1905120"/>
            <a:ext cx="7925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Arial"/>
              </a:rPr>
              <a:t>OBIETTIVO BARRI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stenuto e finanziata la campagna e realizzata filiale prototipo anche con la consulenza di associazioni di portatori di handica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ppatura barriere architettoniche presenti nelle fili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nziat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 per il triennio 2004-2006 per 6 milioni di Eu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l 2004 due filiali di UniCredit Banca, una a Saluzzo (CN) e una a Mantova, hanno ricevuto da parte di Cittadinanzattiva la segnalazione di “buona pratica” per l’agevole access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Novembre 2004 inaugurato primo Sportello Facile UniCredit Ban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676520"/>
            <a:ext cx="8534160" cy="4343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4572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CCESSIBILITA’ SERVIZI BANCAR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35640" y="6610320"/>
            <a:ext cx="633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19320" y="76320"/>
            <a:ext cx="8501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2052720"/>
            <a:ext cx="3048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le perché o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è più semplice per tutti entrare nella filiale di UniCredit Banca di piazza Cordusio a Mil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T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ercorsi tatti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ppe tatti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sse dedic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estor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lar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m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4572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PORTELLO FAC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DSC_0035" descr=""/>
          <p:cNvPicPr/>
          <p:nvPr/>
        </p:nvPicPr>
        <p:blipFill>
          <a:blip r:embed="rId2"/>
          <a:stretch/>
        </p:blipFill>
        <p:spPr>
          <a:xfrm>
            <a:off x="3952800" y="2038320"/>
            <a:ext cx="5419800" cy="3600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04920" y="1752480"/>
            <a:ext cx="3276360" cy="426744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4267440"/>
              <a:gd name="textAreaBottom" fmla="*/ 4107600 h 4267440"/>
            </a:gdLst>
            <a:ahLst/>
            <a:rect l="textAreaLeft" t="textAreaTop" r="textAreaRight" b="textAreaBottom"/>
            <a:pathLst>
              <a:path w="21600" h="28133">
                <a:moveTo>
                  <a:pt x="3600" y="0"/>
                </a:moveTo>
                <a:arcTo wR="3600" hR="3600" stAng="16200000" swAng="-5400000"/>
                <a:lnTo>
                  <a:pt x="0" y="24533"/>
                </a:lnTo>
                <a:arcTo wR="3600" hR="3600" stAng="10800000" swAng="-5400000"/>
                <a:lnTo>
                  <a:pt x="18000" y="281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35640" y="6610320"/>
            <a:ext cx="633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76320"/>
            <a:ext cx="8501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4572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2286000"/>
            <a:ext cx="807732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4572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NTEGRAZIONE RISOR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523880" y="2057400"/>
            <a:ext cx="6629400" cy="3962520"/>
            <a:chOff x="1523880" y="2057400"/>
            <a:chExt cx="6629400" cy="3962520"/>
          </a:xfrm>
        </p:grpSpPr>
        <p:sp>
          <p:nvSpPr>
            <p:cNvPr id="90" name=""/>
            <p:cNvSpPr/>
            <p:nvPr/>
          </p:nvSpPr>
          <p:spPr>
            <a:xfrm>
              <a:off x="1523880" y="2057400"/>
              <a:ext cx="6629400" cy="3962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57040" y="2438280"/>
              <a:ext cx="5867640" cy="32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a abbiamo fatto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stazione PC con tecnologie compensativ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issioni ridotte per le risorse disabil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a faremo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iamo valutando di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alizzare studio approfondito disabili in aziend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durre in braille le  circolari di serviz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35640" y="6610320"/>
            <a:ext cx="633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76320"/>
            <a:ext cx="8501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4572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4572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BILANCIO SOCIALE AMBIENT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870200"/>
            <a:ext cx="8381880" cy="22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l 2000 pubblichiamo i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ilancio Sociale Ambienta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rumento di gest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rumento di comunic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ccoglie dati ed informazioni riguardanti le attività e le iniziative intraprese per andare incontro alle esigenze dei nostri stakehol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4900680"/>
            <a:ext cx="8458200" cy="12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ferimenti metodologic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cui liberamente ci ispiria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ef1c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Reporting Initi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ef1c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eri per la redazione del Bilancio Sociale nel settore del credito  AB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oscar" descr=""/>
          <p:cNvPicPr/>
          <p:nvPr/>
        </p:nvPicPr>
        <p:blipFill>
          <a:blip r:embed="rId2"/>
          <a:stretch/>
        </p:blipFill>
        <p:spPr>
          <a:xfrm>
            <a:off x="7086600" y="1762200"/>
            <a:ext cx="1492200" cy="1438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35640" y="6610320"/>
            <a:ext cx="633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76320"/>
            <a:ext cx="8501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4572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40000"/>
                </a:solidFill>
                <a:latin typeface="Arial"/>
              </a:rPr>
              <a:t>CONTA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2133720"/>
            <a:ext cx="8458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2048040"/>
            <a:ext cx="678168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ranziska C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iCredito Italiano S.p.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sponsabilità Sociale e Coordinamento Territori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rezione Corporate Ident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ia S.Protaso 3  20121 Mil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l. 02 886232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ax 02 886239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it-IT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anziska.cuter@unicredit.i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unicredit.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3:07:32Z</dcterms:created>
  <dc:creator>BEX</dc:creator>
  <dc:description/>
  <dc:language>en-US</dc:language>
  <cp:lastModifiedBy> </cp:lastModifiedBy>
  <dcterms:modified xsi:type="dcterms:W3CDTF">2004-11-26T08:48:00Z</dcterms:modified>
  <cp:revision>220</cp:revision>
  <dc:subject/>
  <dc:title>UCI ppt</dc:title>
</cp:coreProperties>
</file>