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29.wmf" ContentType="image/x-wmf"/>
  <Override PartName="/ppt/media/image12.png" ContentType="image/png"/>
  <Override PartName="/ppt/media/image7.jpeg" ContentType="image/jpeg"/>
  <Override PartName="/ppt/media/image27.gif" ContentType="image/gif"/>
  <Override PartName="/ppt/media/image28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22.gif" ContentType="image/gif"/>
  <Override PartName="/ppt/media/image18.jpeg" ContentType="image/jpeg"/>
  <Override PartName="/ppt/media/image20.wmf" ContentType="image/x-wmf"/>
  <Override PartName="/ppt/media/image21.jpeg" ContentType="image/jpeg"/>
  <Override PartName="/ppt/media/image23.gif" ContentType="image/gif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0E6-31F4-4987-BEAE-73AD52A4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A22-5D67-4361-A90B-D6179DD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97F-4A32-46A7-A882-589AFAB5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EBF-D89B-4214-8036-F14872AA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3FF-069C-444C-A4E4-DE3F777C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F0A-4478-448B-9200-EAB827D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6B1-2B62-4FEE-AB51-99E26B3B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DFF-39F1-4FEC-9805-D1CF5140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5DF-A7CE-40C4-A6C4-8C16BED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F99-0D81-42D8-9E97-F136BAB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BFB-A7A9-450D-BA52-AD4D8C6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A44-3EF3-478C-83D0-3BCF624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207-FA15-4B64-83E4-4834F25BF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hyperlink" Target="http://www.dislessia.it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VAGNA1Anim" descr=""/>
          <p:cNvPicPr/>
          <p:nvPr/>
        </p:nvPicPr>
        <p:blipFill>
          <a:blip r:embed="rId1"/>
          <a:stretch/>
        </p:blipFill>
        <p:spPr>
          <a:xfrm>
            <a:off x="457200" y="525600"/>
            <a:ext cx="567072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33360" y="512640"/>
            <a:ext cx="21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v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ANDImatica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64840" y="220968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Campus d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 Marin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 esperienz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6720" y="5326200"/>
            <a:ext cx="28972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9907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ult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eve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te le pa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resentazione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467080" cy="4327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3232080"/>
            <a:ext cx="5791320" cy="33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o me questo campus è st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lto istruttivo e piacev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erché si è sviluppata in me un po’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 soprattutto tutti noi eravamo ragazz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gu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 lo stesso problema di dislessia ed io mi sentivo normale come gli altri e non inferiore. E’ stato importante conoscere altri ragazzi perché eravamo quasi tutti uguali anche nel carattere e anche se abbiamo passato solo pochi giorni insieme, siamo diventati molto uniti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n vedo l’o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he venga il mese di Settembre perché ci rincontreremo per un’altra giornata da passare in compagnia con i nostr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005280"/>
            <a:ext cx="594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ult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ungo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i consapevol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ia nell’uso degli str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ci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resentazione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4670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5300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191120" y="34290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407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63040" y="19954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troppo è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252900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iamo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0" y="4508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19520" y="17280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86688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pubblica di San Marin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-25 Giugno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940360" y="228600"/>
            <a:ext cx="28972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06668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apiantar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biro non ha mai insegnato a scrivere a nessu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" y="2209680"/>
            <a:ext cx="7696800" cy="1141560"/>
            <a:chOff x="228600" y="2209680"/>
            <a:chExt cx="7696800" cy="1141560"/>
          </a:xfrm>
        </p:grpSpPr>
        <p:sp>
          <p:nvSpPr>
            <p:cNvPr id="142" name=""/>
            <p:cNvSpPr/>
            <p:nvPr/>
          </p:nvSpPr>
          <p:spPr>
            <a:xfrm>
              <a:off x="1406520" y="2238480"/>
              <a:ext cx="6518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 il computer non si disimpara a legge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 a scrivere, anzi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bimbo%20computer" descr="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118116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2280" y="3733920"/>
            <a:ext cx="7696080" cy="1676160"/>
            <a:chOff x="152280" y="3733920"/>
            <a:chExt cx="7696080" cy="1676160"/>
          </a:xfrm>
        </p:grpSpPr>
        <p:sp>
          <p:nvSpPr>
            <p:cNvPr id="145" name=""/>
            <p:cNvSpPr/>
            <p:nvPr/>
          </p:nvSpPr>
          <p:spPr>
            <a:xfrm>
              <a:off x="2454120" y="3916800"/>
              <a:ext cx="539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 non si muore di fatica  si impara lo stess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fatica" descr=""/>
            <p:cNvPicPr/>
            <p:nvPr/>
          </p:nvPicPr>
          <p:blipFill>
            <a:blip r:embed="rId3"/>
            <a:stretch/>
          </p:blipFill>
          <p:spPr>
            <a:xfrm>
              <a:off x="152280" y="3733920"/>
              <a:ext cx="230184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1447920" y="5078520"/>
            <a:ext cx="7467480" cy="1627200"/>
            <a:chOff x="1447920" y="5078520"/>
            <a:chExt cx="7467480" cy="1627200"/>
          </a:xfrm>
        </p:grpSpPr>
        <p:pic>
          <p:nvPicPr>
            <p:cNvPr id="148" name="g0602437" descr=""/>
            <p:cNvPicPr/>
            <p:nvPr/>
          </p:nvPicPr>
          <p:blipFill>
            <a:blip r:embed="rId4"/>
            <a:stretch/>
          </p:blipFill>
          <p:spPr>
            <a:xfrm>
              <a:off x="6934320" y="5078520"/>
              <a:ext cx="19810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47920" y="5334120"/>
              <a:ext cx="54100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iustizia in educazione è dare ad ognuno ciò di cui ha bisogn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1295280"/>
            <a:ext cx="5790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ggerimen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pia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alità 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tilizzo dell’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no favorevo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rapiantare%20ridimension" descr=""/>
          <p:cNvPicPr/>
          <p:nvPr/>
        </p:nvPicPr>
        <p:blipFill>
          <a:blip r:embed="rId2"/>
          <a:stretch/>
        </p:blipFill>
        <p:spPr>
          <a:xfrm>
            <a:off x="5113440" y="1752480"/>
            <a:ext cx="3687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LAVAGNA1Anim" descr=""/>
          <p:cNvPicPr/>
          <p:nvPr/>
        </p:nvPicPr>
        <p:blipFill>
          <a:blip r:embed="rId1"/>
          <a:stretch/>
        </p:blipFill>
        <p:spPr>
          <a:xfrm>
            <a:off x="457200" y="525600"/>
            <a:ext cx="567072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633360" y="512640"/>
            <a:ext cx="21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ANDImatica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27520" y="2209680"/>
            <a:ext cx="25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su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 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lescenti c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urbi Specifi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46720" y="5326200"/>
            <a:ext cx="28972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67640" y="1484280"/>
            <a:ext cx="88740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76500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pubblica di San Marin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-25 Giugno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84280"/>
            <a:ext cx="3960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Enti promoto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Associazione Italiana Disle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Università degli Studi di San Ma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Università degli Studi di Urb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Anastasis Sc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76720"/>
            <a:ext cx="338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Responsabile Scientif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Giacomo S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Coresponsabile Scientif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Enrico Sav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800600"/>
            <a:ext cx="36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Coordina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- Maristella Craigh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- Tina Mel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708280"/>
            <a:ext cx="2448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Doc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- Luca Gr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- Mariangela Be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Nicoletta Staf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Marcella Pe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4508640"/>
            <a:ext cx="4248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Garamond"/>
              </a:rPr>
              <a:t>Allie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Al Campus, residenziale, hanno partecipato allievi della scuola secondaria di primo grado con disle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21360"/>
            <a:ext cx="864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Tahoma"/>
              </a:rPr>
              <a:t>Associazione Italiana Dislessia 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dislessia.it</a:t>
            </a:r>
            <a:r>
              <a:rPr b="1" lang="it-IT" sz="1800" spc="-1" strike="noStrike">
                <a:solidFill>
                  <a:srgbClr val="808080"/>
                </a:solidFill>
                <a:latin typeface="Tahoma"/>
              </a:rPr>
              <a:t>  E-mail: info@dislessia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tà di apprendimento del “Madre lingua ora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341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76500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pubblica di San Marin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-25 Giugno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0968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Gar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ducare: da 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duce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tirare fu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avatappi" descr=""/>
          <p:cNvPicPr/>
          <p:nvPr/>
        </p:nvPicPr>
        <p:blipFill>
          <a:blip r:embed="rId2"/>
          <a:stretch/>
        </p:blipFill>
        <p:spPr>
          <a:xfrm>
            <a:off x="6346800" y="2743200"/>
            <a:ext cx="2533680" cy="312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44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: poetico: coltivare, far crescer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666880"/>
            <a:ext cx="9144000" cy="4191120"/>
            <a:chOff x="0" y="2666880"/>
            <a:chExt cx="9144000" cy="4191120"/>
          </a:xfrm>
        </p:grpSpPr>
        <p:sp>
          <p:nvSpPr>
            <p:cNvPr id="69" name=""/>
            <p:cNvSpPr/>
            <p:nvPr/>
          </p:nvSpPr>
          <p:spPr>
            <a:xfrm>
              <a:off x="0" y="2666880"/>
              <a:ext cx="9144000" cy="4191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26920" y="2781360"/>
              <a:ext cx="7921800" cy="21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utonomia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dipendenza, libertà di pensare, d'agir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arare%20bimba%20rimpicciolito" descr=""/>
          <p:cNvPicPr/>
          <p:nvPr/>
        </p:nvPicPr>
        <p:blipFill>
          <a:blip r:embed="rId2"/>
          <a:stretch/>
        </p:blipFill>
        <p:spPr>
          <a:xfrm>
            <a:off x="4861080" y="1600200"/>
            <a:ext cx="367344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124080"/>
            <a:ext cx="434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re il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mici dell’autono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ura di sbagl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ssa auto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oca 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6765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“coltivare, far cresc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76520"/>
            <a:ext cx="441936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l 20 al giug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miei genitori mi hanno manda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Campus d’informatica per l’autonomia a San Marino. E’ un corso organizzato per i ragazzi dislessici che frequentano la scuola media e che venivano da tutta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ino all’ultimo minuto pregavo la mamma di tornare indiet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erché pensavo che quel posto sarebbe stato una palla mostruosa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gli arnesi dell’autono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371600"/>
            <a:ext cx="44193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siamo messi in cammino verso l’Università di San Marino dove venivamo ospitati  nella sala computer e dove tutti noi passavamo 6 ore al giorno, 3 la mattina e 3 al pomeriggio, facendo esercizi vari: tema, riassunto, problemi, ec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canner" descr=""/>
          <p:cNvPicPr/>
          <p:nvPr/>
        </p:nvPicPr>
        <p:blipFill>
          <a:blip r:embed="rId2"/>
          <a:stretch/>
        </p:blipFill>
        <p:spPr>
          <a:xfrm>
            <a:off x="2666880" y="5105520"/>
            <a:ext cx="2381400" cy="1312920"/>
          </a:xfrm>
          <a:prstGeom prst="rect">
            <a:avLst/>
          </a:prstGeom>
          <a:ln w="0">
            <a:noFill/>
          </a:ln>
        </p:spPr>
      </p:pic>
      <p:pic>
        <p:nvPicPr>
          <p:cNvPr id="86" name="internet" descr=""/>
          <p:cNvPicPr/>
          <p:nvPr/>
        </p:nvPicPr>
        <p:blipFill>
          <a:blip r:embed="rId3"/>
          <a:stretch/>
        </p:blipFill>
        <p:spPr>
          <a:xfrm>
            <a:off x="6553080" y="4343400"/>
            <a:ext cx="2114640" cy="2171880"/>
          </a:xfrm>
          <a:prstGeom prst="rect">
            <a:avLst/>
          </a:prstGeom>
          <a:ln w="0">
            <a:noFill/>
          </a:ln>
        </p:spPr>
      </p:pic>
      <p:pic>
        <p:nvPicPr>
          <p:cNvPr id="87" name="CarloLo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335268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6348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536560" cy="2536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000" y="457200"/>
            <a:ext cx="1890720" cy="215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05720" y="2438280"/>
            <a:ext cx="2047680" cy="266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0800" y="4788000"/>
            <a:ext cx="2074680" cy="1460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21114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0" y="2286000"/>
            <a:ext cx="9143640" cy="4571640"/>
            <a:chOff x="0" y="2286000"/>
            <a:chExt cx="9143640" cy="4571640"/>
          </a:xfrm>
        </p:grpSpPr>
        <p:pic>
          <p:nvPicPr>
            <p:cNvPr id="95" name="germoglio1" descr="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364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6520" y="2733480"/>
              <a:ext cx="224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I primi germogli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907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inacce del racco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a e tem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andine" descr=""/>
          <p:cNvPicPr/>
          <p:nvPr/>
        </p:nvPicPr>
        <p:blipFill>
          <a:blip r:embed="rId2"/>
          <a:stretch/>
        </p:blipFill>
        <p:spPr>
          <a:xfrm>
            <a:off x="5681520" y="1143000"/>
            <a:ext cx="315756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5960" y="2133720"/>
            <a:ext cx="1711440" cy="3004920"/>
          </a:xfrm>
          <a:prstGeom prst="rect">
            <a:avLst/>
          </a:prstGeom>
          <a:ln w="0">
            <a:noFill/>
          </a:ln>
        </p:spPr>
      </p:pic>
      <p:pic>
        <p:nvPicPr>
          <p:cNvPr id="104" name="testo" descr=""/>
          <p:cNvPicPr/>
          <p:nvPr/>
        </p:nvPicPr>
        <p:blipFill>
          <a:blip r:embed="rId4"/>
          <a:stretch/>
        </p:blipFill>
        <p:spPr>
          <a:xfrm>
            <a:off x="2290680" y="3119400"/>
            <a:ext cx="715824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4360" y="1728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2° CAMPUS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imes New Roman"/>
              </a:rPr>
              <a:t>PER L’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7423200"/>
            <a:ext cx="752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14400"/>
                <a:tab algn="ctr" pos="3200400"/>
                <a:tab algn="ct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213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resentazione" descr=""/>
          <p:cNvPicPr/>
          <p:nvPr/>
        </p:nvPicPr>
        <p:blipFill>
          <a:blip r:embed="rId1"/>
          <a:stretch/>
        </p:blipFill>
        <p:spPr>
          <a:xfrm>
            <a:off x="228600" y="1996920"/>
            <a:ext cx="2467080" cy="4327560"/>
          </a:xfrm>
          <a:prstGeom prst="rect">
            <a:avLst/>
          </a:prstGeom>
          <a:ln w="0">
            <a:noFill/>
          </a:ln>
        </p:spPr>
      </p:pic>
      <p:pic>
        <p:nvPicPr>
          <p:cNvPr id="109" name="mappa%20DINOSAURI" descr=""/>
          <p:cNvPicPr/>
          <p:nvPr/>
        </p:nvPicPr>
        <p:blipFill>
          <a:blip r:embed="rId2"/>
          <a:stretch/>
        </p:blipFill>
        <p:spPr>
          <a:xfrm>
            <a:off x="3219480" y="762120"/>
            <a:ext cx="5272200" cy="6019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zione dei fr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89728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8:14:24Z</dcterms:created>
  <dc:creator>lgrandi</dc:creator>
  <dc:description/>
  <dc:language>en-US</dc:language>
  <cp:lastModifiedBy> </cp:lastModifiedBy>
  <dcterms:modified xsi:type="dcterms:W3CDTF">2004-11-27T08:44:15Z</dcterms:modified>
  <cp:revision>39</cp:revision>
  <dc:subject/>
  <dc:title>Disturbi Specifici dell’Apprendimento</dc:title>
</cp:coreProperties>
</file>